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3B293-95A6-4B0E-B18C-F4D08FB1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25200-647A-4187-B3F9-764E790D5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0FDD1-786A-4BCE-89FB-1273D6199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623EA-2934-4CDA-A7F5-469EE52D5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F1F6-F53E-40BB-90AE-5E250EA4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99889-A01D-4B0D-B272-7D847B71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3564-AEC2-41B6-9908-1C71B32A5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2BCE2-ABC5-434A-9100-444C831C5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DD818-0D93-4D55-81D2-50A15C48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C5EA-10CA-4D32-9684-5F3F9F11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21E3-5297-4262-B29A-4FB6EB200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A9D0B-1AF4-4BD1-B546-8C528EE5B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2F15-DADD-47A9-8CA4-A5FF64052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Veronica Louis Lois Sinclair Reutzel;</a:t>
            </a:r>
            <a:br>
              <a:rPr sz="4400"/>
            </a:br>
            <a:r>
              <a:rPr b="0" lang="en-US" sz="4400" spc="-1" strike="noStrike">
                <a:solidFill>
                  <a:srgbClr val="000000"/>
                </a:solidFill>
                <a:latin typeface="Amienne"/>
              </a:rPr>
              <a:t>A Kiss from Poland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ienne"/>
              </a:rPr>
              <a:t>A memoir by her granddaughter, Monika Balfan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Let’s do the time warp agai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eestyle Script"/>
              </a:rPr>
              <a:t>	</a:t>
            </a:r>
            <a:r>
              <a:rPr b="1" lang="en-US" sz="3200" spc="-1" strike="noStrike">
                <a:solidFill>
                  <a:srgbClr val="000000"/>
                </a:solidFill>
                <a:latin typeface="Freestyle Script"/>
              </a:rPr>
              <a:t>	</a:t>
            </a:r>
            <a:r>
              <a:rPr b="1" lang="en-US" sz="3200" spc="-1" strike="noStrike">
                <a:solidFill>
                  <a:srgbClr val="000000"/>
                </a:solidFill>
                <a:latin typeface="Freestyle Script"/>
              </a:rPr>
              <a:t>Today, Veronica Louis Lois Sinclair Reutzel is older physically and emotionally, but mentally she’s still ready to take on the world.  She parties like a Red Hatter.  My Gama and I still dance around like we’re maniacs. She still looks like a movie star with her bedroom eyes and yes, we are still going on a road trip to Loonyville together.  She’s my grandmother, and no, you can’t have her. . </a:t>
            </a:r>
            <a:endParaRPr b="0" lang="en-US" sz="32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ienne"/>
              </a:rPr>
              <a:t>In a land far far away….</a:t>
            </a:r>
            <a:endParaRPr b="0" lang="en-US" sz="4400" spc="-1" strike="noStrike">
              <a:solidFill>
                <a:srgbClr val="000000"/>
              </a:solidFill>
              <a:latin typeface="Arial"/>
            </a:endParaRPr>
          </a:p>
        </p:txBody>
      </p:sp>
      <p:sp>
        <p:nvSpPr>
          <p:cNvPr id="44" name=""/>
          <p:cNvSpPr/>
          <p:nvPr/>
        </p:nvSpPr>
        <p:spPr>
          <a:xfrm>
            <a:off x="1295280" y="1066680"/>
            <a:ext cx="7162920" cy="996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eestyle Script"/>
              </a:rPr>
              <a:t>	</a:t>
            </a:r>
            <a:r>
              <a:rPr b="1" lang="en-US" sz="2800" spc="-1" strike="noStrike">
                <a:solidFill>
                  <a:srgbClr val="000000"/>
                </a:solidFill>
                <a:latin typeface="Freestyle Script"/>
              </a:rPr>
              <a:t>The smell of baking pretzels fills the air with their warm and salty essence. The noise of little children running throughout the busy street were like a sweet sunshine tune to the young girl’s ears. Her icy blond hair laid covered in a parka, her face was hidden under a scarf. The only visible object from beneath her layers were her eyes.  “ bedroom eyes”, as to what they would call them.  Hazel eyes, green mostly in color but with sparkles of brown.  They would stare up at you with such softness that your heart would melt, unlike the two feet of perfect snow that always engulfed Philly. The little girl was up to her knees in frost and snow, but she was used to it.  She always had to walk a mile to school anyways, and Philly would never delay it’s school for a little snow.  She had to get to school, a little Catholic Private school named……..</a:t>
            </a:r>
            <a:endParaRPr b="0" lang="en-US" sz="2800" spc="-1" strike="noStrike">
              <a:solidFill>
                <a:srgbClr val="000000"/>
              </a:solidFill>
              <a:latin typeface="Arial"/>
            </a:endParaRPr>
          </a:p>
        </p:txBody>
      </p:sp>
      <p:sp>
        <p:nvSpPr>
          <p:cNvPr id="45" name=""/>
          <p:cNvSpPr/>
          <p:nvPr/>
        </p:nvSpPr>
        <p:spPr>
          <a:xfrm>
            <a:off x="380880" y="609480"/>
            <a:ext cx="190512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Veronica Louis Sinclai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Philadelph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ylium"/>
              </a:rPr>
              <a:t>Pennsylva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1:43:53Z</dcterms:created>
  <dc:creator>Virginia Beach Public Schools</dc:creator>
  <dc:description/>
  <dc:language>en-US</dc:language>
  <cp:lastModifiedBy>Virginia Beach Public Schools</cp:lastModifiedBy>
  <dcterms:modified xsi:type="dcterms:W3CDTF">2008-03-20T12:08:59Z</dcterms:modified>
  <cp:revision>2</cp:revision>
  <dc:subject/>
  <dc:title>Veronica Louis Lois Sinclair Reutzel; A Kiss from Poland </dc:title>
</cp:coreProperties>
</file>